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4.wmf" ContentType="image/x-wmf"/>
  <Override PartName="/ppt/media/image7.png" ContentType="image/png"/>
  <Override PartName="/ppt/media/image1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666" spc="-1" strike="noStrike">
                <a:solidFill>
                  <a:srgbClr val="000000"/>
                </a:solidFill>
                <a:latin typeface="Arial"/>
              </a:defRPr>
            </a:pPr>
            <a:r>
              <a:rPr b="1" sz="1666" spc="-1" strike="noStrike">
                <a:solidFill>
                  <a:srgbClr val="000000"/>
                </a:solidFill>
                <a:latin typeface="Arial"/>
              </a:rPr>
              <a:t>EESFM MARÇO MATUTINO</a:t>
            </a:r>
          </a:p>
        </c:rich>
      </c:tx>
      <c:layout>
        <c:manualLayout>
          <c:xMode val="edge"/>
          <c:yMode val="edge"/>
          <c:x val="0.369539131594151"/>
          <c:y val="0.0201224846894138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110736157980252"/>
          <c:w val="0.959957335229545"/>
          <c:h val="0.86901637295338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2</c:v>
                </c:pt>
                <c:pt idx="1">
                  <c:v>10</c:v>
                </c:pt>
                <c:pt idx="2">
                  <c:v>16</c:v>
                </c:pt>
                <c:pt idx="3">
                  <c:v>9</c:v>
                </c:pt>
                <c:pt idx="4">
                  <c:v>3</c:v>
                </c:pt>
                <c:pt idx="5">
                  <c:v>3</c:v>
                </c:pt>
                <c:pt idx="6">
                  <c:v>1</c:v>
                </c:pt>
                <c:pt idx="7">
                  <c:v>5</c:v>
                </c:pt>
                <c:pt idx="8">
                  <c:v>3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1</c:v>
                </c:pt>
                <c:pt idx="13">
                  <c:v>1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5.4</c:v>
                </c:pt>
                <c:pt idx="1">
                  <c:v>4.4</c:v>
                </c:pt>
                <c:pt idx="2">
                  <c:v>10.4</c:v>
                </c:pt>
                <c:pt idx="3">
                  <c:v>11.6</c:v>
                </c:pt>
                <c:pt idx="4">
                  <c:v>6</c:v>
                </c:pt>
                <c:pt idx="5">
                  <c:v>6</c:v>
                </c:pt>
                <c:pt idx="6">
                  <c:v>3.2</c:v>
                </c:pt>
                <c:pt idx="7">
                  <c:v>4.4</c:v>
                </c:pt>
                <c:pt idx="8">
                  <c:v>1.6</c:v>
                </c:pt>
                <c:pt idx="9">
                  <c:v>2.2</c:v>
                </c:pt>
                <c:pt idx="10">
                  <c:v>1.8</c:v>
                </c:pt>
                <c:pt idx="11">
                  <c:v>1.6</c:v>
                </c:pt>
                <c:pt idx="12">
                  <c:v>0.8</c:v>
                </c:pt>
                <c:pt idx="13">
                  <c:v>0.8</c:v>
                </c:pt>
                <c:pt idx="14">
                  <c:v>0.8</c:v>
                </c:pt>
                <c:pt idx="15">
                  <c:v>1</c:v>
                </c:pt>
              </c:numCache>
            </c:numRef>
          </c:val>
        </c:ser>
        <c:gapWidth val="100"/>
        <c:overlap val="0"/>
        <c:axId val="7996294"/>
        <c:axId val="84709758"/>
      </c:barChart>
      <c:catAx>
        <c:axId val="799629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709758"/>
        <c:crossesAt val="0"/>
        <c:auto val="1"/>
        <c:lblAlgn val="ctr"/>
        <c:lblOffset val="100"/>
        <c:noMultiLvlLbl val="0"/>
      </c:catAx>
      <c:valAx>
        <c:axId val="847097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96294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500" spc="-1" strike="noStrike">
                <a:solidFill>
                  <a:srgbClr val="000000"/>
                </a:solidFill>
                <a:latin typeface="Arial"/>
              </a:defRPr>
            </a:pPr>
            <a:r>
              <a:rPr b="1" sz="1500" spc="-1" strike="noStrike">
                <a:solidFill>
                  <a:srgbClr val="000000"/>
                </a:solidFill>
                <a:latin typeface="Arial"/>
              </a:rPr>
              <a:t>EESFM ABRIL MATUTINO</a:t>
            </a:r>
          </a:p>
        </c:rich>
      </c:tx>
      <c:layout>
        <c:manualLayout>
          <c:xMode val="edge"/>
          <c:yMode val="edge"/>
          <c:x val="0.400984828320468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83745896549"/>
          <c:y val="0.209473815773028"/>
          <c:w val="0.959985804276462"/>
          <c:h val="0.77015373078365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6</c:v>
                </c:pt>
                <c:pt idx="2">
                  <c:v>6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2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5.74838709677419</c:v>
                </c:pt>
                <c:pt idx="1">
                  <c:v>4.68387096774194</c:v>
                </c:pt>
                <c:pt idx="2">
                  <c:v>11.0709677419355</c:v>
                </c:pt>
                <c:pt idx="3">
                  <c:v>12.3483870967742</c:v>
                </c:pt>
                <c:pt idx="4">
                  <c:v>6.38709677419355</c:v>
                </c:pt>
                <c:pt idx="5">
                  <c:v>6.38709677419355</c:v>
                </c:pt>
                <c:pt idx="6">
                  <c:v>3.40645161290323</c:v>
                </c:pt>
                <c:pt idx="7">
                  <c:v>4.68387096774194</c:v>
                </c:pt>
                <c:pt idx="8">
                  <c:v>1.70322580645161</c:v>
                </c:pt>
                <c:pt idx="9">
                  <c:v>2.34193548387097</c:v>
                </c:pt>
                <c:pt idx="10">
                  <c:v>1.91612903225806</c:v>
                </c:pt>
                <c:pt idx="11">
                  <c:v>1.70322580645161</c:v>
                </c:pt>
                <c:pt idx="12">
                  <c:v>0.851612903225806</c:v>
                </c:pt>
                <c:pt idx="13">
                  <c:v>0.851612903225806</c:v>
                </c:pt>
                <c:pt idx="14">
                  <c:v>0.851612903225806</c:v>
                </c:pt>
                <c:pt idx="15">
                  <c:v>1.06451612903226</c:v>
                </c:pt>
              </c:numCache>
            </c:numRef>
          </c:val>
        </c:ser>
        <c:gapWidth val="100"/>
        <c:overlap val="0"/>
        <c:axId val="50696775"/>
        <c:axId val="91248211"/>
      </c:barChart>
      <c:catAx>
        <c:axId val="5069677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48211"/>
        <c:crossesAt val="0"/>
        <c:auto val="1"/>
        <c:lblAlgn val="ctr"/>
        <c:lblOffset val="100"/>
        <c:noMultiLvlLbl val="0"/>
      </c:catAx>
      <c:valAx>
        <c:axId val="912482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96775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500" spc="-1" strike="noStrike">
                <a:solidFill>
                  <a:srgbClr val="000000"/>
                </a:solidFill>
                <a:latin typeface="Arial"/>
              </a:defRPr>
            </a:pPr>
            <a:r>
              <a:rPr b="1" sz="1500" spc="-1" strike="noStrike">
                <a:solidFill>
                  <a:srgbClr val="000000"/>
                </a:solidFill>
                <a:latin typeface="Arial"/>
              </a:rPr>
              <a:t>EESFM MAIO MATUTINO</a:t>
            </a:r>
          </a:p>
        </c:rich>
      </c:tx>
      <c:layout>
        <c:manualLayout>
          <c:xMode val="edge"/>
          <c:yMode val="edge"/>
          <c:x val="0.312234042553192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911347517731"/>
          <c:y val="0.209473815773028"/>
          <c:w val="0.959929078014184"/>
          <c:h val="0.77015373078365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3</c:v>
                </c:pt>
                <c:pt idx="1">
                  <c:v>6</c:v>
                </c:pt>
                <c:pt idx="2">
                  <c:v>1</c:v>
                </c:pt>
                <c:pt idx="3">
                  <c:v>3</c:v>
                </c:pt>
                <c:pt idx="4">
                  <c:v>2</c:v>
                </c:pt>
                <c:pt idx="5">
                  <c:v>2</c:v>
                </c:pt>
                <c:pt idx="6">
                  <c:v>6</c:v>
                </c:pt>
                <c:pt idx="7">
                  <c:v>0</c:v>
                </c:pt>
                <c:pt idx="8">
                  <c:v>1</c:v>
                </c:pt>
                <c:pt idx="9">
                  <c:v>0</c:v>
                </c:pt>
                <c:pt idx="10">
                  <c:v>3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22258064516129</c:v>
                </c:pt>
                <c:pt idx="1">
                  <c:v>2.6258064516129</c:v>
                </c:pt>
                <c:pt idx="2">
                  <c:v>6.20645161290323</c:v>
                </c:pt>
                <c:pt idx="3">
                  <c:v>6.92258064516129</c:v>
                </c:pt>
                <c:pt idx="4">
                  <c:v>3.58064516129032</c:v>
                </c:pt>
                <c:pt idx="5">
                  <c:v>3.58064516129032</c:v>
                </c:pt>
                <c:pt idx="6">
                  <c:v>1.90967741935484</c:v>
                </c:pt>
                <c:pt idx="7">
                  <c:v>2.6258064516129</c:v>
                </c:pt>
                <c:pt idx="8">
                  <c:v>0.95483870967742</c:v>
                </c:pt>
                <c:pt idx="9">
                  <c:v>1.31290322580645</c:v>
                </c:pt>
                <c:pt idx="10">
                  <c:v>1.0741935483871</c:v>
                </c:pt>
                <c:pt idx="11">
                  <c:v>0.95483870967742</c:v>
                </c:pt>
                <c:pt idx="12">
                  <c:v>0.47741935483871</c:v>
                </c:pt>
                <c:pt idx="13">
                  <c:v>0.47741935483871</c:v>
                </c:pt>
                <c:pt idx="14">
                  <c:v>0.47741935483871</c:v>
                </c:pt>
                <c:pt idx="15">
                  <c:v>0.596774193548387</c:v>
                </c:pt>
              </c:numCache>
            </c:numRef>
          </c:val>
        </c:ser>
        <c:gapWidth val="100"/>
        <c:overlap val="0"/>
        <c:axId val="67238240"/>
        <c:axId val="17230848"/>
      </c:barChart>
      <c:catAx>
        <c:axId val="6723824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30848"/>
        <c:crossesAt val="0"/>
        <c:auto val="1"/>
        <c:lblAlgn val="ctr"/>
        <c:lblOffset val="100"/>
        <c:noMultiLvlLbl val="0"/>
      </c:catAx>
      <c:valAx>
        <c:axId val="172308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23824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7" spc="-1" strike="noStrike">
                <a:solidFill>
                  <a:srgbClr val="000000"/>
                </a:solidFill>
                <a:latin typeface="Arial"/>
              </a:defRPr>
            </a:pPr>
            <a:r>
              <a:rPr b="1" sz="1497" spc="-1" strike="noStrike">
                <a:solidFill>
                  <a:srgbClr val="000000"/>
                </a:solidFill>
                <a:latin typeface="Arial"/>
              </a:rPr>
              <a:t>EESFM MARÇO VESPERTINO</a:t>
            </a:r>
          </a:p>
        </c:rich>
      </c:tx>
      <c:layout>
        <c:manualLayout>
          <c:xMode val="edge"/>
          <c:yMode val="edge"/>
          <c:x val="0.372383449624461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991111506155"/>
          <c:y val="0.209473815773028"/>
          <c:w val="0.959912892760322"/>
          <c:h val="0.77015373078365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3</c:v>
                </c:pt>
                <c:pt idx="1">
                  <c:v>4</c:v>
                </c:pt>
                <c:pt idx="2">
                  <c:v>15</c:v>
                </c:pt>
                <c:pt idx="3">
                  <c:v>9</c:v>
                </c:pt>
                <c:pt idx="4">
                  <c:v>6</c:v>
                </c:pt>
                <c:pt idx="5">
                  <c:v>9</c:v>
                </c:pt>
                <c:pt idx="6">
                  <c:v>2</c:v>
                </c:pt>
                <c:pt idx="7">
                  <c:v>7</c:v>
                </c:pt>
                <c:pt idx="8">
                  <c:v>1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1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6</c:v>
                </c:pt>
                <c:pt idx="1">
                  <c:v>5</c:v>
                </c:pt>
                <c:pt idx="2">
                  <c:v>13.6</c:v>
                </c:pt>
                <c:pt idx="3">
                  <c:v>12.2</c:v>
                </c:pt>
                <c:pt idx="4">
                  <c:v>6.6</c:v>
                </c:pt>
                <c:pt idx="5">
                  <c:v>6.6</c:v>
                </c:pt>
                <c:pt idx="6">
                  <c:v>3.2</c:v>
                </c:pt>
                <c:pt idx="7">
                  <c:v>6.2</c:v>
                </c:pt>
                <c:pt idx="8">
                  <c:v>0.4</c:v>
                </c:pt>
                <c:pt idx="9">
                  <c:v>0.4</c:v>
                </c:pt>
                <c:pt idx="10">
                  <c:v>0.6</c:v>
                </c:pt>
                <c:pt idx="11">
                  <c:v>0.4</c:v>
                </c:pt>
                <c:pt idx="12">
                  <c:v>0.2</c:v>
                </c:pt>
                <c:pt idx="13">
                  <c:v>0.2</c:v>
                </c:pt>
                <c:pt idx="14">
                  <c:v>1.4</c:v>
                </c:pt>
                <c:pt idx="15">
                  <c:v>1</c:v>
                </c:pt>
              </c:numCache>
            </c:numRef>
          </c:val>
        </c:ser>
        <c:gapWidth val="100"/>
        <c:overlap val="0"/>
        <c:axId val="92579615"/>
        <c:axId val="44115840"/>
      </c:barChart>
      <c:catAx>
        <c:axId val="9257961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115840"/>
        <c:crossesAt val="0"/>
        <c:auto val="1"/>
        <c:lblAlgn val="ctr"/>
        <c:lblOffset val="100"/>
        <c:noMultiLvlLbl val="0"/>
      </c:catAx>
      <c:valAx>
        <c:axId val="441158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79615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5" spc="-1" strike="noStrike">
                <a:solidFill>
                  <a:srgbClr val="000000"/>
                </a:solidFill>
                <a:latin typeface="Arial"/>
              </a:defRPr>
            </a:pPr>
            <a:r>
              <a:rPr b="1" sz="1495" spc="-1" strike="noStrike">
                <a:solidFill>
                  <a:srgbClr val="000000"/>
                </a:solidFill>
                <a:latin typeface="Arial"/>
              </a:rPr>
              <a:t>EESFM ABRIL VESPERTINO</a:t>
            </a:r>
          </a:p>
        </c:rich>
      </c:tx>
      <c:layout>
        <c:manualLayout>
          <c:xMode val="edge"/>
          <c:yMode val="edge"/>
          <c:x val="0.350473312297231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209473815773028"/>
          <c:w val="0.959957335229545"/>
          <c:h val="0.77015373078365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1</c:v>
                </c:pt>
                <c:pt idx="1">
                  <c:v>5</c:v>
                </c:pt>
                <c:pt idx="2">
                  <c:v>7</c:v>
                </c:pt>
                <c:pt idx="3">
                  <c:v>4</c:v>
                </c:pt>
                <c:pt idx="4">
                  <c:v>7</c:v>
                </c:pt>
                <c:pt idx="5">
                  <c:v>15</c:v>
                </c:pt>
                <c:pt idx="6">
                  <c:v>1</c:v>
                </c:pt>
                <c:pt idx="7">
                  <c:v>8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6.1875</c:v>
                </c:pt>
                <c:pt idx="1">
                  <c:v>5.15625</c:v>
                </c:pt>
                <c:pt idx="2">
                  <c:v>14.025</c:v>
                </c:pt>
                <c:pt idx="3">
                  <c:v>12.58125</c:v>
                </c:pt>
                <c:pt idx="4">
                  <c:v>6.80625</c:v>
                </c:pt>
                <c:pt idx="5">
                  <c:v>6.80625</c:v>
                </c:pt>
                <c:pt idx="6">
                  <c:v>3.3</c:v>
                </c:pt>
                <c:pt idx="7">
                  <c:v>6.39375</c:v>
                </c:pt>
                <c:pt idx="8">
                  <c:v>0.4125</c:v>
                </c:pt>
                <c:pt idx="9">
                  <c:v>0.4125</c:v>
                </c:pt>
                <c:pt idx="10">
                  <c:v>0.61875</c:v>
                </c:pt>
                <c:pt idx="11">
                  <c:v>0.4125</c:v>
                </c:pt>
                <c:pt idx="12">
                  <c:v>0.20625</c:v>
                </c:pt>
                <c:pt idx="13">
                  <c:v>0.20625</c:v>
                </c:pt>
                <c:pt idx="14">
                  <c:v>1.44375</c:v>
                </c:pt>
                <c:pt idx="15">
                  <c:v>1.03125</c:v>
                </c:pt>
              </c:numCache>
            </c:numRef>
          </c:val>
        </c:ser>
        <c:gapWidth val="100"/>
        <c:overlap val="0"/>
        <c:axId val="36573749"/>
        <c:axId val="69328248"/>
      </c:barChart>
      <c:catAx>
        <c:axId val="3657374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28248"/>
        <c:crossesAt val="0"/>
        <c:auto val="1"/>
        <c:lblAlgn val="ctr"/>
        <c:lblOffset val="100"/>
        <c:noMultiLvlLbl val="0"/>
      </c:catAx>
      <c:valAx>
        <c:axId val="693282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73749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4" spc="-1" strike="noStrike">
                <a:solidFill>
                  <a:srgbClr val="000000"/>
                </a:solidFill>
                <a:latin typeface="Arial"/>
              </a:defRPr>
            </a:pPr>
            <a:r>
              <a:rPr b="1" sz="1494" spc="-1" strike="noStrike">
                <a:solidFill>
                  <a:srgbClr val="000000"/>
                </a:solidFill>
                <a:latin typeface="Arial"/>
              </a:rPr>
              <a:t>EESFM MAIO VESPERTINO</a:t>
            </a:r>
          </a:p>
        </c:rich>
      </c:tx>
      <c:layout>
        <c:manualLayout>
          <c:xMode val="edge"/>
          <c:yMode val="edge"/>
          <c:x val="0.350473312297231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209473815773028"/>
          <c:w val="0.959912892760322"/>
          <c:h val="0.77015373078365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2</c:v>
                </c:pt>
                <c:pt idx="2">
                  <c:v>4</c:v>
                </c:pt>
                <c:pt idx="3">
                  <c:v>3</c:v>
                </c:pt>
                <c:pt idx="4">
                  <c:v>0</c:v>
                </c:pt>
                <c:pt idx="5">
                  <c:v>9</c:v>
                </c:pt>
                <c:pt idx="6">
                  <c:v>2</c:v>
                </c:pt>
                <c:pt idx="7">
                  <c:v>5</c:v>
                </c:pt>
                <c:pt idx="8">
                  <c:v>1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28125</c:v>
                </c:pt>
                <c:pt idx="1">
                  <c:v>2.734375</c:v>
                </c:pt>
                <c:pt idx="2">
                  <c:v>7.4375</c:v>
                </c:pt>
                <c:pt idx="3">
                  <c:v>6.671875</c:v>
                </c:pt>
                <c:pt idx="4">
                  <c:v>3.609375</c:v>
                </c:pt>
                <c:pt idx="5">
                  <c:v>3.609375</c:v>
                </c:pt>
                <c:pt idx="6">
                  <c:v>1.75</c:v>
                </c:pt>
                <c:pt idx="7">
                  <c:v>3.390625</c:v>
                </c:pt>
                <c:pt idx="8">
                  <c:v>0.21875</c:v>
                </c:pt>
                <c:pt idx="9">
                  <c:v>0.21875</c:v>
                </c:pt>
                <c:pt idx="10">
                  <c:v>0.328125</c:v>
                </c:pt>
                <c:pt idx="11">
                  <c:v>0.21875</c:v>
                </c:pt>
                <c:pt idx="12">
                  <c:v>0.109375</c:v>
                </c:pt>
                <c:pt idx="13">
                  <c:v>0.109375</c:v>
                </c:pt>
                <c:pt idx="14">
                  <c:v>0.765625</c:v>
                </c:pt>
                <c:pt idx="15">
                  <c:v>0.546875</c:v>
                </c:pt>
              </c:numCache>
            </c:numRef>
          </c:val>
        </c:ser>
        <c:gapWidth val="100"/>
        <c:overlap val="0"/>
        <c:axId val="19451840"/>
        <c:axId val="49750160"/>
      </c:barChart>
      <c:catAx>
        <c:axId val="1945184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750160"/>
        <c:crossesAt val="0"/>
        <c:auto val="1"/>
        <c:lblAlgn val="ctr"/>
        <c:lblOffset val="100"/>
        <c:noMultiLvlLbl val="0"/>
      </c:catAx>
      <c:valAx>
        <c:axId val="497501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5184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666" spc="-1" strike="noStrike">
                <a:solidFill>
                  <a:srgbClr val="000000"/>
                </a:solidFill>
                <a:latin typeface="Arial"/>
              </a:defRPr>
            </a:pPr>
            <a:r>
              <a:rPr b="1" sz="1666" spc="-1" strike="noStrike">
                <a:solidFill>
                  <a:srgbClr val="000000"/>
                </a:solidFill>
                <a:latin typeface="Arial"/>
              </a:rPr>
              <a:t>EESFM MARÇO NOTURNO</a:t>
            </a:r>
          </a:p>
        </c:rich>
      </c:tx>
      <c:layout>
        <c:manualLayout>
          <c:xMode val="edge"/>
          <c:yMode val="edge"/>
          <c:x val="0.349762232789654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119110111236096"/>
          <c:w val="0.959957335229545"/>
          <c:h val="0.860517435320585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5</c:v>
                </c:pt>
                <c:pt idx="3">
                  <c:v>1</c:v>
                </c:pt>
                <c:pt idx="4">
                  <c:v>0</c:v>
                </c:pt>
                <c:pt idx="5">
                  <c:v>3</c:v>
                </c:pt>
                <c:pt idx="6">
                  <c:v>1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1</c:v>
                </c:pt>
                <c:pt idx="11">
                  <c:v>0</c:v>
                </c:pt>
                <c:pt idx="12">
                  <c:v>0</c:v>
                </c:pt>
                <c:pt idx="13">
                  <c:v>1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1.5929203539823</c:v>
                </c:pt>
                <c:pt idx="1">
                  <c:v>1.5929203539823</c:v>
                </c:pt>
                <c:pt idx="2">
                  <c:v>5.41592920353982</c:v>
                </c:pt>
                <c:pt idx="3">
                  <c:v>5.09734513274336</c:v>
                </c:pt>
                <c:pt idx="4">
                  <c:v>3.50442477876106</c:v>
                </c:pt>
                <c:pt idx="5">
                  <c:v>3.50442477876106</c:v>
                </c:pt>
                <c:pt idx="6">
                  <c:v>3.50442477876106</c:v>
                </c:pt>
                <c:pt idx="7">
                  <c:v>0.955752212389381</c:v>
                </c:pt>
                <c:pt idx="8">
                  <c:v>2.54867256637168</c:v>
                </c:pt>
                <c:pt idx="9">
                  <c:v>3.1858407079646</c:v>
                </c:pt>
                <c:pt idx="10">
                  <c:v>2.54867256637168</c:v>
                </c:pt>
                <c:pt idx="11">
                  <c:v>1.27433628318584</c:v>
                </c:pt>
                <c:pt idx="12">
                  <c:v>0.63716814159292</c:v>
                </c:pt>
                <c:pt idx="13">
                  <c:v>0.63716814159292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56706442"/>
        <c:axId val="14701066"/>
      </c:barChart>
      <c:catAx>
        <c:axId val="5670644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701066"/>
        <c:crossesAt val="0"/>
        <c:auto val="1"/>
        <c:lblAlgn val="ctr"/>
        <c:lblOffset val="100"/>
        <c:noMultiLvlLbl val="0"/>
      </c:catAx>
      <c:valAx>
        <c:axId val="147010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706442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7" spc="-1" strike="noStrike">
                <a:solidFill>
                  <a:srgbClr val="000000"/>
                </a:solidFill>
                <a:latin typeface="Arial"/>
              </a:defRPr>
            </a:pPr>
            <a:r>
              <a:rPr b="1" sz="1497" spc="-1" strike="noStrike">
                <a:solidFill>
                  <a:srgbClr val="000000"/>
                </a:solidFill>
                <a:latin typeface="Arial"/>
              </a:rPr>
              <a:t>EESFM ABRIL NOTURNO</a:t>
            </a:r>
          </a:p>
        </c:rich>
      </c:tx>
      <c:layout>
        <c:manualLayout>
          <c:xMode val="edge"/>
          <c:yMode val="edge"/>
          <c:x val="0.337629438691614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473815773028"/>
          <c:w val="0.960001777698769"/>
          <c:h val="0.77015373078365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3</c:v>
                </c:pt>
                <c:pt idx="3">
                  <c:v>9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6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1.3716814159292</c:v>
                </c:pt>
                <c:pt idx="1">
                  <c:v>1.3716814159292</c:v>
                </c:pt>
                <c:pt idx="2">
                  <c:v>4.66371681415929</c:v>
                </c:pt>
                <c:pt idx="3">
                  <c:v>4.38938053097345</c:v>
                </c:pt>
                <c:pt idx="4">
                  <c:v>3.01769911504425</c:v>
                </c:pt>
                <c:pt idx="5">
                  <c:v>3.01769911504425</c:v>
                </c:pt>
                <c:pt idx="6">
                  <c:v>3.01769911504425</c:v>
                </c:pt>
                <c:pt idx="7">
                  <c:v>0.823008849557522</c:v>
                </c:pt>
                <c:pt idx="8">
                  <c:v>2.19469026548673</c:v>
                </c:pt>
                <c:pt idx="9">
                  <c:v>2.74336283185841</c:v>
                </c:pt>
                <c:pt idx="10">
                  <c:v>2.19469026548673</c:v>
                </c:pt>
                <c:pt idx="11">
                  <c:v>1.09734513274336</c:v>
                </c:pt>
                <c:pt idx="12">
                  <c:v>0.548672566371681</c:v>
                </c:pt>
                <c:pt idx="13">
                  <c:v>0.548672566371681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60373779"/>
        <c:axId val="56126499"/>
      </c:barChart>
      <c:catAx>
        <c:axId val="6037377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126499"/>
        <c:crossesAt val="0"/>
        <c:auto val="1"/>
        <c:lblAlgn val="ctr"/>
        <c:lblOffset val="100"/>
        <c:noMultiLvlLbl val="0"/>
      </c:catAx>
      <c:valAx>
        <c:axId val="561264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73779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6" spc="-1" strike="noStrike">
                <a:solidFill>
                  <a:srgbClr val="000000"/>
                </a:solidFill>
                <a:latin typeface="Arial"/>
              </a:defRPr>
            </a:pPr>
            <a:r>
              <a:rPr b="1" sz="1496" spc="-1" strike="noStrike">
                <a:solidFill>
                  <a:srgbClr val="000000"/>
                </a:solidFill>
                <a:latin typeface="Arial"/>
              </a:rPr>
              <a:t>EESFM MAIO NOTURNO</a:t>
            </a:r>
          </a:p>
        </c:rich>
      </c:tx>
      <c:layout>
        <c:manualLayout>
          <c:xMode val="edge"/>
          <c:yMode val="edge"/>
          <c:x val="0.352384338473846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209473815773028"/>
          <c:w val="0.959957335229545"/>
          <c:h val="0.77015373078365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4</c:v>
                </c:pt>
                <c:pt idx="4">
                  <c:v>0</c:v>
                </c:pt>
                <c:pt idx="5">
                  <c:v>2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4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1.01769911504425</c:v>
                </c:pt>
                <c:pt idx="1">
                  <c:v>1.01769911504425</c:v>
                </c:pt>
                <c:pt idx="2">
                  <c:v>3.46017699115044</c:v>
                </c:pt>
                <c:pt idx="3">
                  <c:v>3.25663716814159</c:v>
                </c:pt>
                <c:pt idx="4">
                  <c:v>2.23893805309735</c:v>
                </c:pt>
                <c:pt idx="5">
                  <c:v>2.23893805309735</c:v>
                </c:pt>
                <c:pt idx="6">
                  <c:v>2.23893805309735</c:v>
                </c:pt>
                <c:pt idx="7">
                  <c:v>0.610619469026549</c:v>
                </c:pt>
                <c:pt idx="8">
                  <c:v>1.6283185840708</c:v>
                </c:pt>
                <c:pt idx="9">
                  <c:v>2.0353982300885</c:v>
                </c:pt>
                <c:pt idx="10">
                  <c:v>1.6283185840708</c:v>
                </c:pt>
                <c:pt idx="11">
                  <c:v>0.814159292035398</c:v>
                </c:pt>
                <c:pt idx="12">
                  <c:v>0.407079646017699</c:v>
                </c:pt>
                <c:pt idx="13">
                  <c:v>0.407079646017699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28942374"/>
        <c:axId val="72278991"/>
      </c:barChart>
      <c:catAx>
        <c:axId val="2894237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278991"/>
        <c:crossesAt val="0"/>
        <c:auto val="1"/>
        <c:lblAlgn val="ctr"/>
        <c:lblOffset val="100"/>
        <c:noMultiLvlLbl val="0"/>
      </c:catAx>
      <c:valAx>
        <c:axId val="722789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942374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6C38-352D-4DFE-BB3F-205CA5DA618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22D2-F2F6-4D55-BFAE-BC27E655A3C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5256-8005-4088-9036-5D729F9B532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AF30-5C36-4A87-ADD9-AF24EE0C045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C9D9-AAFD-4383-9F13-BE594981357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52DE-7D5C-4E30-BDD6-49D9C901488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FBD7-CE75-4F74-92D0-05FC2D3B8F8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B2E9-161E-4317-95B6-C5B61716A97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EF25-5554-4382-B584-6C5B9AAA5EF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785F-4C65-4B89-9498-2C42E5D68E7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B51C-D415-4356-847A-BCD9371DF37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91E3-3646-4FC6-983B-BFB9944B46F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F435-7FC6-4C13-8DA4-DB76352B8AA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8EC1-D80A-4E18-B324-3F4B01DA8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592A-445C-4FB0-8994-F6500134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C8AE-C1A2-45E1-8701-39B1FD402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C117-F60C-4C9F-B5AD-F6371AD36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DD8D-A825-4C88-9D3B-61ED34780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C712-7FEE-4E4F-813A-BEFF2F7F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59A8-23E5-4CE5-9D72-9E16691E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6ED2-DCE3-4451-A849-81626A0E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FDE9-AAC6-4D1A-B585-8EAE9991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095A-BEA9-4D91-A59E-E17EC259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9024-2267-4659-8BE3-00FFED55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7809-6A19-4B04-A582-5201F68E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15EA-6221-49C8-AA62-A4B8BA6F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AAD8-0EBE-4FFC-A84E-EFE57CAE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3B7D-6387-41E9-BE66-C32DAE70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FFF1-3E0F-4109-9BEE-22E3833F7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28A8-B1CE-4C84-BE3F-4E1A0F943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4029A8-1A07-4A35-80F3-2B056DEC8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73A53C-9D77-4741-8E07-3AB3C82B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65F80E-EA88-436E-9EFC-C911A709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D4AE7A-8F9D-45A3-8871-3FD54FF8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1A2E0E-E4CC-40CC-9F2D-F52F8BB8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4DD0-F2E2-48B5-9A8D-C4770627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7BAF2A-4AC6-4A12-99E9-CD0BE5BB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52EA4E-6D9E-495A-8499-D54058A9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430B53-4BE9-4260-BA27-736B000B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E7F745-929F-49DB-90C5-AE33C344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AB61DF-3EBD-49B8-9916-C630339F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47016F-4018-4DB0-AFB7-838E6818F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409843-2EB4-4FF9-A8C5-EA3B23B72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91F49B-BED6-4CA3-A6E4-86C9BD76E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AF3149-45F4-4324-9C5C-B6CF5A93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2958BE-4CB6-4930-AD63-D43ED497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C842-AB4C-43FD-B64D-BF791A10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86F88E-3232-4340-816F-71E7C776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737B67-B29F-4B50-81F4-11632721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3DD347-3882-4BC1-9CC6-3A8A3157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620B9A-09CE-4DE4-A57B-A12FFD7E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4D28B3-2FB0-4450-8DED-62BBB9CB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BB136E-4D49-4AC5-A9E1-C78D9578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5B2223-5957-4C4F-8587-AD217EA6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686028-5C6A-4FDF-A97A-DBE68E53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FB6795-D57C-40AA-90C4-434C3440E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E678A8-92F2-4FED-9789-49FA06974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0CDA-0D28-4711-A3DC-E47C9EC8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A358FF-909A-486C-8C70-B6DB7093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795269-2A3E-4245-AF52-475642CF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A9AD9E-447B-4D1E-80E5-EC6C579E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2EBCAC-E465-49A9-80D9-9BCE0241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6F7E3A-9EB7-4010-83B5-16C7AC3D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74FF2C-EB6F-4875-9DC3-BAD28215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140F0E-2D15-4AA2-8E4D-2942BDB5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FF1DD0-94B5-48CE-B6C9-02BF2489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72AD2C-D042-408B-9943-C72E48C1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6CF128-FC01-4262-8F51-28A725324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CF61-4284-49FF-98B3-35B8A76F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247F43-2D7F-4B83-B915-C8336E8B5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C9B60-ECEB-4544-BE19-AD8781E77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41C92-BF51-46C2-BA8F-F593FA06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8D046-9B5D-4BB9-89E6-6735BEEB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42D91-2630-4FCB-82B2-0AE77BDE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4F11A-8F00-44C4-B9C5-1D5716DA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4BA19-323E-4E50-86CB-F696A0F6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63804-8394-41DA-AE1C-39F95D00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3F4A6-9FD0-4736-8EF6-E6113F97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427DA-BA4B-43C3-B88E-41244046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AD6D-45B6-4A37-9847-894DA15A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0FE74-C93A-482D-9B0A-79657DE5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316CA-7B97-45C8-A929-EDF9D869B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52BAA-B5AF-4857-8024-E8579E748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94471C-C18F-42F9-9441-1210DC3BA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02E365-31B2-4CF4-BE4D-5BB6E9CD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F9C593-E15B-4CBB-B58B-6EAF757B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9A4AFC-7B71-4416-AC82-A16843EB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CCE78A-9D8B-4A85-9DEB-83976C53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83EA22-E7BD-4E87-BC41-967209FF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252239-3796-496A-A926-CE9F3BB9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8569-4B6F-4C46-A5A0-457DA393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E5F803-9075-46AD-BDCA-B19CCA8F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81C304-C7A7-4338-9673-9CC5FBD9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2C8C25-EC64-4D8D-A952-7D37D4AC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FC77CF-9F33-4876-AFE9-EB14DDA89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66CFFF-EC92-4665-BA16-0B46ACADE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D3889-CD49-47CA-A199-B51CCDE72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0E2B5-1BC2-488D-BBCA-C2B00F23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2AD36-9B1F-4DBC-BA2C-55FCE519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97FEB-0705-496F-9AA3-93C12E4F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58210-F755-46F4-8428-83000A8A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9160-EC38-4CDA-AAC4-44295D8B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6DA37-32C5-4FD5-8A59-A83CF3B1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FB4F4-8492-4711-BBEC-CEF510F7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B7B0D-2A42-4F4C-9027-099754B5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DD01E-050F-4592-A7BE-F0B2EBA7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27130-C597-4097-A1A0-FA5E8915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DDFF9-A8B4-4BA2-AD61-12E0E6683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FEB07-2258-438F-BB21-848B0DDBF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Professora Multiplicadora Carla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tângulo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tângulo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8F86-23F7-4085-AD3C-524E07BD6471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tângulo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tângulo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Professora Multiplicadora Carla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D068-460A-42DA-8D00-2AB49FFA3C54}" type="slidenum"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tângulo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tângulo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FFA2-169E-467B-A477-5284640D4C93}" type="slidenum"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Professora Multiplicadora Carla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tângulo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tângulo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565D-B699-4078-9F09-3FE2E83EBC7C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Professora Multiplicadora Carla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tângulo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tângulo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E1F2-8185-4155-9EFB-39210FE89282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Professora Multiplicadora Carla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Professora Multiplicadora Carla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C3FB-1781-4D9C-977F-13C39AB2652E}" type="slidenum"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tângulo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tângulo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tângulo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tângulo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27F0-58E8-4FAE-B5D9-969FA3B3AE2D}" type="slidenum"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Professora Multiplicadora Carla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tângulo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tângulo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tângulo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Professora Multiplicadora Carla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6098-8285-41D4-A1A8-577280C9611B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chart" Target="../charts/chart5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chart" Target="../charts/chart6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178596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775f55"/>
                </a:solidFill>
                <a:latin typeface="Tw Cen MT"/>
              </a:rPr>
              <a:t>E. E. SENADOR FILINTO MULL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w Cen MT"/>
              </a:rPr>
              <a:t>NTE – NOVA ANDRADIN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Espaço Reservado para Rodapé 3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539640" y="1642680"/>
            <a:ext cx="36165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Curso LINUX (NTE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ATAC II – Ambientes Tecnológicos de Aprendizagem Colaborativa e Proinfo integrado (NTE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4788000" y="1643040"/>
            <a:ext cx="435600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 executado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concluído em Nova Andradin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0" y="1428480"/>
            <a:ext cx="914400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600" spc="-1" strike="noStrike">
                <a:solidFill>
                  <a:srgbClr val="000099"/>
                </a:solidFill>
                <a:latin typeface="Tw Cen MT"/>
              </a:rPr>
              <a:t>PELA STE</a:t>
            </a:r>
            <a:endParaRPr b="0" lang="en-US" sz="6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10920" y="1571400"/>
            <a:ext cx="3616200" cy="45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ffff"/>
                </a:solidFill>
                <a:latin typeface="Tw Cen MT"/>
              </a:rPr>
              <a:t>Elaboração e apresentação do Plano de Ação 2009;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ffff"/>
                </a:solidFill>
                <a:latin typeface="Tw Cen MT"/>
              </a:rPr>
              <a:t>Preenchimento do relatório do PNUD Brasil Ponto a Ponto pelos alunos;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ffff"/>
                </a:solidFill>
                <a:latin typeface="Tw Cen MT"/>
              </a:rPr>
              <a:t>Acompanhamento das atividades desenvolvidas pelos professores regentes;</a:t>
            </a:r>
            <a:r>
              <a:rPr b="1" lang="pt-BR" sz="22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Rectangle 5"/>
          <p:cNvSpPr/>
          <p:nvPr/>
        </p:nvSpPr>
        <p:spPr>
          <a:xfrm>
            <a:off x="4859280" y="1643040"/>
            <a:ext cx="3618000" cy="42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15/03 a 15/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( executada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09/03 a 16/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( executada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03/03 a 10/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( em andamento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539640" y="1643040"/>
            <a:ext cx="3616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Tw Cen MT"/>
              </a:rPr>
              <a:t>Pesquisa com professores regentes sobre os cursos que poderão ser ofertados pelos professores da STE;</a:t>
            </a: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Criação e alimentação página WIKI da escol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Curso Básico de Informática (CBIV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4643280" y="1643040"/>
            <a:ext cx="4500720" cy="40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15/03 a 15/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( executada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07/04 a 10/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(parcialmente executad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25/05 a 29/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( executada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99680" y="1571400"/>
            <a:ext cx="36162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Elaboração Projeto I Encontro PST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Auxilio na elaboração de projetos individuai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TV Escola análise e divulgação junto aos docentes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5003640" y="1571760"/>
            <a:ext cx="361656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04/05 a 29/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 executad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bril a dezembro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em andament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bril a dezembro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em andament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0099"/>
                </a:solidFill>
                <a:latin typeface="Tw Cen MT"/>
              </a:rPr>
              <a:t>ESTATÍSTICA</a:t>
            </a:r>
            <a:endParaRPr b="0" lang="en-US" sz="7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0" y="475920"/>
            <a:ext cx="91440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 algn="ctr"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w Cen MT"/>
              </a:rPr>
              <a:t>MATUTINO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w Cen MT"/>
              </a:rPr>
              <a:t>MARÇO – ABRIL– MAIO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w Cen MT"/>
              </a:rPr>
              <a:t>EMERSON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>
              <a:spcBef>
                <a:spcPts val="9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8" name="Picture 3" descr=""/>
          <p:cNvPicPr/>
          <p:nvPr/>
        </p:nvPicPr>
        <p:blipFill>
          <a:blip r:embed="rId1"/>
          <a:stretch/>
        </p:blipFill>
        <p:spPr>
          <a:xfrm>
            <a:off x="6215040" y="214200"/>
            <a:ext cx="272268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MARÇ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Object 4"/>
          <p:cNvGraphicFramePr/>
          <p:nvPr/>
        </p:nvGraphicFramePr>
        <p:xfrm>
          <a:off x="0" y="1268280"/>
          <a:ext cx="9144000" cy="3251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22" name="Object 5"/>
          <p:cNvGraphicFramePr/>
          <p:nvPr/>
        </p:nvGraphicFramePr>
        <p:xfrm>
          <a:off x="2556000" y="4581360"/>
          <a:ext cx="4174920" cy="1587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2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00" y="4581360"/>
                    <a:ext cx="417492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ABRI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5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Object 4"/>
          <p:cNvGraphicFramePr/>
          <p:nvPr/>
        </p:nvGraphicFramePr>
        <p:xfrm>
          <a:off x="0" y="1268280"/>
          <a:ext cx="9144000" cy="32432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27" name="Object 5"/>
          <p:cNvGraphicFramePr/>
          <p:nvPr/>
        </p:nvGraphicFramePr>
        <p:xfrm>
          <a:off x="2843280" y="4581360"/>
          <a:ext cx="3887640" cy="1479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2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3280" y="4581360"/>
                    <a:ext cx="388764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MAI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Object 4"/>
          <p:cNvGraphicFramePr/>
          <p:nvPr/>
        </p:nvGraphicFramePr>
        <p:xfrm>
          <a:off x="0" y="1214280"/>
          <a:ext cx="9144000" cy="3241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32" name="Object 5"/>
          <p:cNvGraphicFramePr/>
          <p:nvPr/>
        </p:nvGraphicFramePr>
        <p:xfrm>
          <a:off x="2627280" y="4653000"/>
          <a:ext cx="4032360" cy="1533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3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7280" y="4653000"/>
                    <a:ext cx="403236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99"/>
                </a:solidFill>
                <a:latin typeface="Tw Cen MT"/>
              </a:rPr>
              <a:t>GRUPO COMO UNO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Espaço Reservado para Rodapé 5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48"/>
          <p:cNvGrpSpPr/>
          <p:nvPr/>
        </p:nvGrpSpPr>
        <p:grpSpPr>
          <a:xfrm>
            <a:off x="1143000" y="1643040"/>
            <a:ext cx="6337080" cy="4651920"/>
            <a:chOff x="1143000" y="1643040"/>
            <a:chExt cx="6337080" cy="4651920"/>
          </a:xfrm>
        </p:grpSpPr>
        <p:grpSp>
          <p:nvGrpSpPr>
            <p:cNvPr id="363" name="Group 33"/>
            <p:cNvGrpSpPr/>
            <p:nvPr/>
          </p:nvGrpSpPr>
          <p:grpSpPr>
            <a:xfrm>
              <a:off x="2079360" y="5530680"/>
              <a:ext cx="5400720" cy="764280"/>
              <a:chOff x="2079360" y="5530680"/>
              <a:chExt cx="5400720" cy="764280"/>
            </a:xfrm>
          </p:grpSpPr>
          <p:sp>
            <p:nvSpPr>
              <p:cNvPr id="364" name="Text Box 14"/>
              <p:cNvSpPr/>
              <p:nvPr/>
            </p:nvSpPr>
            <p:spPr>
              <a:xfrm>
                <a:off x="2079360" y="5530680"/>
                <a:ext cx="1008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4400" spc="-1" strike="noStrike">
                    <a:solidFill>
                      <a:srgbClr val="000000"/>
                    </a:solidFill>
                    <a:latin typeface="Arial"/>
                  </a:rPr>
                  <a:t>72</a:t>
                </a:r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Line 18"/>
              <p:cNvSpPr/>
              <p:nvPr/>
            </p:nvSpPr>
            <p:spPr>
              <a:xfrm>
                <a:off x="2871360" y="5964120"/>
                <a:ext cx="64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Text Box 19"/>
              <p:cNvSpPr/>
              <p:nvPr/>
            </p:nvSpPr>
            <p:spPr>
              <a:xfrm>
                <a:off x="3519360" y="5530680"/>
                <a:ext cx="1655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4000" spc="-1" strike="noStrike">
                    <a:solidFill>
                      <a:srgbClr val="ebddc3"/>
                    </a:solidFill>
                    <a:latin typeface="Arial"/>
                  </a:rPr>
                  <a:t>500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Line 21"/>
              <p:cNvSpPr/>
              <p:nvPr/>
            </p:nvSpPr>
            <p:spPr>
              <a:xfrm>
                <a:off x="4959000" y="5964120"/>
                <a:ext cx="64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Text Box 22"/>
              <p:cNvSpPr/>
              <p:nvPr/>
            </p:nvSpPr>
            <p:spPr>
              <a:xfrm>
                <a:off x="5535360" y="5530680"/>
                <a:ext cx="1944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4000" spc="-1" strike="noStrike">
                    <a:solidFill>
                      <a:srgbClr val="000000"/>
                    </a:solidFill>
                    <a:latin typeface="Arial"/>
                  </a:rPr>
                  <a:t>22.000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36"/>
            <p:cNvGrpSpPr/>
            <p:nvPr/>
          </p:nvGrpSpPr>
          <p:grpSpPr>
            <a:xfrm>
              <a:off x="1143000" y="1643040"/>
              <a:ext cx="6049800" cy="3671280"/>
              <a:chOff x="1143000" y="1643040"/>
              <a:chExt cx="6049800" cy="3671280"/>
            </a:xfrm>
          </p:grpSpPr>
          <p:sp>
            <p:nvSpPr>
              <p:cNvPr id="370" name="AutoShape 37"/>
              <p:cNvSpPr/>
              <p:nvPr/>
            </p:nvSpPr>
            <p:spPr>
              <a:xfrm flipV="1">
                <a:off x="2655720" y="1642680"/>
                <a:ext cx="3851640" cy="1495440"/>
              </a:xfrm>
              <a:custGeom>
                <a:avLst/>
                <a:gdLst>
                  <a:gd name="textAreaLeft" fmla="*/ 673920 w 3851640"/>
                  <a:gd name="textAreaRight" fmla="*/ 2792520 w 3851640"/>
                  <a:gd name="textAreaTop" fmla="*/ 200160 h 1495440"/>
                  <a:gd name="textAreaBottom" fmla="*/ 1295280 h 1495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94b6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AutoShape 38"/>
              <p:cNvSpPr/>
              <p:nvPr/>
            </p:nvSpPr>
            <p:spPr>
              <a:xfrm>
                <a:off x="2725560" y="3818880"/>
                <a:ext cx="3711960" cy="1495440"/>
              </a:xfrm>
              <a:custGeom>
                <a:avLst/>
                <a:gdLst>
                  <a:gd name="textAreaLeft" fmla="*/ 649440 w 3711960"/>
                  <a:gd name="textAreaRight" fmla="*/ 2691360 w 3711960"/>
                  <a:gd name="textAreaTop" fmla="*/ 200160 h 1495440"/>
                  <a:gd name="textAreaBottom" fmla="*/ 1295280 h 1495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94b6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39"/>
              <p:cNvSpPr/>
              <p:nvPr/>
            </p:nvSpPr>
            <p:spPr>
              <a:xfrm>
                <a:off x="1143000" y="3274920"/>
                <a:ext cx="6049800" cy="11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800" spc="-1" strike="noStrike">
                    <a:solidFill>
                      <a:srgbClr val="000000"/>
                    </a:solidFill>
                    <a:latin typeface="Arial"/>
                  </a:rPr>
                  <a:t>COTEC      NTE        STE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Text Box 40"/>
              <p:cNvSpPr/>
              <p:nvPr/>
            </p:nvSpPr>
            <p:spPr>
              <a:xfrm>
                <a:off x="2243160" y="3886200"/>
                <a:ext cx="619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Arial"/>
                  </a:rPr>
                  <a:t>02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41"/>
              <p:cNvSpPr/>
              <p:nvPr/>
            </p:nvSpPr>
            <p:spPr>
              <a:xfrm>
                <a:off x="2519280" y="3682080"/>
                <a:ext cx="0" cy="20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Text Box 42"/>
              <p:cNvSpPr/>
              <p:nvPr/>
            </p:nvSpPr>
            <p:spPr>
              <a:xfrm>
                <a:off x="4100040" y="3886200"/>
                <a:ext cx="61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09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43"/>
              <p:cNvSpPr/>
              <p:nvPr/>
            </p:nvSpPr>
            <p:spPr>
              <a:xfrm>
                <a:off x="4306320" y="3682080"/>
                <a:ext cx="0" cy="20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Text Box 44"/>
              <p:cNvSpPr/>
              <p:nvPr/>
            </p:nvSpPr>
            <p:spPr>
              <a:xfrm>
                <a:off x="6025680" y="3886200"/>
                <a:ext cx="61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61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Line 45"/>
              <p:cNvSpPr/>
              <p:nvPr/>
            </p:nvSpPr>
            <p:spPr>
              <a:xfrm>
                <a:off x="6093720" y="3615120"/>
                <a:ext cx="13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46"/>
              <p:cNvSpPr/>
              <p:nvPr/>
            </p:nvSpPr>
            <p:spPr>
              <a:xfrm>
                <a:off x="6231600" y="3615120"/>
                <a:ext cx="0" cy="27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0" y="691920"/>
            <a:ext cx="91440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99"/>
                </a:solidFill>
                <a:latin typeface="Tw Cen MT"/>
              </a:rPr>
              <a:t>VESPERTINO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99"/>
                </a:solidFill>
                <a:latin typeface="Tw Cen MT"/>
              </a:rPr>
              <a:t>MARÇO- ABRIL – MAIO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99"/>
                </a:solidFill>
                <a:latin typeface="Tw Cen MT"/>
              </a:rPr>
              <a:t>MARTA</a:t>
            </a:r>
            <a:r>
              <a:rPr b="1" lang="pt-BR" sz="4000" spc="-1" strike="noStrike">
                <a:solidFill>
                  <a:srgbClr val="94b6d2"/>
                </a:solidFill>
                <a:latin typeface="Tw Cen M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6" name="Picture 3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2233800" cy="1473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MARÇ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8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Object 4"/>
          <p:cNvGraphicFramePr/>
          <p:nvPr/>
        </p:nvGraphicFramePr>
        <p:xfrm>
          <a:off x="0" y="1214280"/>
          <a:ext cx="9144000" cy="32515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40" name="Object 5"/>
          <p:cNvGraphicFramePr/>
          <p:nvPr/>
        </p:nvGraphicFramePr>
        <p:xfrm>
          <a:off x="2771640" y="4653000"/>
          <a:ext cx="3959280" cy="1506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4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71640" y="4653000"/>
                    <a:ext cx="3959280" cy="15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ABRI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3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4" name="Object 4"/>
          <p:cNvGraphicFramePr/>
          <p:nvPr/>
        </p:nvGraphicFramePr>
        <p:xfrm>
          <a:off x="0" y="1214280"/>
          <a:ext cx="9144000" cy="32515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45" name="Object 5"/>
          <p:cNvGraphicFramePr/>
          <p:nvPr/>
        </p:nvGraphicFramePr>
        <p:xfrm>
          <a:off x="2700360" y="4653000"/>
          <a:ext cx="3960720" cy="1506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4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4653000"/>
                    <a:ext cx="3960720" cy="15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MAI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8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Object 4"/>
          <p:cNvGraphicFramePr/>
          <p:nvPr/>
        </p:nvGraphicFramePr>
        <p:xfrm>
          <a:off x="0" y="1285920"/>
          <a:ext cx="9144000" cy="3251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50" name="Object 5"/>
          <p:cNvGraphicFramePr/>
          <p:nvPr/>
        </p:nvGraphicFramePr>
        <p:xfrm>
          <a:off x="2843280" y="4724280"/>
          <a:ext cx="3887640" cy="1479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5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3280" y="4724280"/>
                    <a:ext cx="388764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0" y="214200"/>
            <a:ext cx="914400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0099"/>
                </a:solidFill>
                <a:latin typeface="Tw Cen MT"/>
              </a:rPr>
              <a:t>NOTURNO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0099"/>
                </a:solidFill>
                <a:latin typeface="Tw Cen MT"/>
              </a:rPr>
              <a:t>MARÇO – ABRIL – MAIO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0099"/>
                </a:solidFill>
                <a:latin typeface="Tw Cen MT"/>
              </a:rPr>
              <a:t>GERSON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54" name="Picture 4" descr=""/>
          <p:cNvPicPr/>
          <p:nvPr/>
        </p:nvPicPr>
        <p:blipFill>
          <a:blip r:embed="rId1"/>
          <a:stretch/>
        </p:blipFill>
        <p:spPr>
          <a:xfrm>
            <a:off x="6929280" y="42876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MARÇ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Object 4"/>
          <p:cNvGraphicFramePr/>
          <p:nvPr/>
        </p:nvGraphicFramePr>
        <p:xfrm>
          <a:off x="0" y="1214280"/>
          <a:ext cx="9144000" cy="32515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58" name="Object 5"/>
          <p:cNvGraphicFramePr/>
          <p:nvPr/>
        </p:nvGraphicFramePr>
        <p:xfrm>
          <a:off x="2771640" y="4724280"/>
          <a:ext cx="3889440" cy="1479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5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71640" y="4724280"/>
                    <a:ext cx="388944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ABRI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1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Object 4"/>
          <p:cNvGraphicFramePr/>
          <p:nvPr/>
        </p:nvGraphicFramePr>
        <p:xfrm>
          <a:off x="0" y="1214280"/>
          <a:ext cx="9144000" cy="32515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63" name="Object 5"/>
          <p:cNvGraphicFramePr/>
          <p:nvPr/>
        </p:nvGraphicFramePr>
        <p:xfrm>
          <a:off x="2700360" y="4724280"/>
          <a:ext cx="3816360" cy="1452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6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4724280"/>
                    <a:ext cx="3816360" cy="14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MAI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6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7" name="Object 4"/>
          <p:cNvGraphicFramePr/>
          <p:nvPr/>
        </p:nvGraphicFramePr>
        <p:xfrm>
          <a:off x="0" y="1214280"/>
          <a:ext cx="9144000" cy="32515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68" name="Object 5"/>
          <p:cNvGraphicFramePr/>
          <p:nvPr/>
        </p:nvGraphicFramePr>
        <p:xfrm>
          <a:off x="2627280" y="4653000"/>
          <a:ext cx="4032360" cy="1533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6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7280" y="4653000"/>
                    <a:ext cx="403236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539640" y="285480"/>
            <a:ext cx="8229600" cy="57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99"/>
                </a:solidFill>
                <a:latin typeface="Tw Cen MT"/>
              </a:rPr>
              <a:t>PONTOS PARA REFLETIR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72" name="Picture 4" descr=""/>
          <p:cNvPicPr/>
          <p:nvPr/>
        </p:nvPicPr>
        <p:blipFill>
          <a:blip r:embed="rId1"/>
          <a:stretch/>
        </p:blipFill>
        <p:spPr>
          <a:xfrm>
            <a:off x="2928960" y="2000160"/>
            <a:ext cx="2924280" cy="3757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68360" y="157176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A comunicação entre PNTE e PSTE deve ser constante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Os e-mails devem ser lidos por todos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O MSN deve ficar ligado no período em que o Professor da STE estiver na sala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Os prazos deverão ser cumpridos, sendo alterado com justificativa prévia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99"/>
                </a:solidFill>
                <a:latin typeface="Tw Cen MT"/>
              </a:rPr>
              <a:t>OBJETIVO</a:t>
            </a:r>
            <a:endParaRPr b="0" lang="en-US" sz="4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1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68360" y="1500120"/>
            <a:ext cx="822960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Apresentar alguns pontos que devem ser mudados para o bom andamento do trabalho na STE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Apresentar as ações que foram desenvolvidas pelos professores multiplicadores (NTE – STE) no 1º semestre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Apresentar, analisar e refletir a respeito do uso da STE da escola no 1º semestre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Elaborar cronograma de ações dos professores da STE no 2º semestre para formação in loc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Será responsabilizado o profissional que não cumprir com suas atribuições (professor do NTE, STE e professores regentes);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Será construído portfólio online das atividades desenvolvidas pelos alunos na STE;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Todos os planos de aula dos professores deverão ser assinados pelo coordenador do turno;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O professor com </a:t>
            </a:r>
            <a:r>
              <a:rPr b="1" lang="pt-BR" sz="2800" spc="-1" strike="noStrike">
                <a:solidFill>
                  <a:srgbClr val="704404"/>
                </a:solidFill>
                <a:latin typeface="Tw Cen MT"/>
              </a:rPr>
              <a:t>20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horas, disponibilizará </a:t>
            </a:r>
            <a:r>
              <a:rPr b="1" lang="pt-BR" sz="2800" spc="-1" strike="noStrike">
                <a:solidFill>
                  <a:srgbClr val="704404"/>
                </a:solidFill>
                <a:latin typeface="Tw Cen MT"/>
              </a:rPr>
              <a:t>18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aulas para ser usadas com professores e alunos, </a:t>
            </a:r>
            <a:r>
              <a:rPr b="1" lang="pt-BR" sz="2800" spc="-1" strike="noStrike">
                <a:solidFill>
                  <a:srgbClr val="704404"/>
                </a:solidFill>
                <a:latin typeface="Tw Cen MT"/>
              </a:rPr>
              <a:t>4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aulas para planejamento junto aos coordenadores e professores regentes e </a:t>
            </a:r>
            <a:r>
              <a:rPr b="1" lang="pt-BR" sz="2800" spc="-1" strike="noStrike">
                <a:solidFill>
                  <a:srgbClr val="704404"/>
                </a:solidFill>
                <a:latin typeface="Tw Cen MT"/>
              </a:rPr>
              <a:t>2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para pesquisa externa;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O professor com </a:t>
            </a:r>
            <a:r>
              <a:rPr b="1" lang="pt-BR" sz="2800" spc="-1" strike="noStrike">
                <a:solidFill>
                  <a:srgbClr val="704404"/>
                </a:solidFill>
                <a:latin typeface="Tw Cen MT"/>
              </a:rPr>
              <a:t>10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horas disponibilizará </a:t>
            </a:r>
            <a:r>
              <a:rPr b="1" lang="pt-BR" sz="2800" spc="-1" strike="noStrike">
                <a:solidFill>
                  <a:srgbClr val="704404"/>
                </a:solidFill>
                <a:latin typeface="Tw Cen MT"/>
              </a:rPr>
              <a:t>9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aulas para ser usadas com professores e alunos, </a:t>
            </a:r>
            <a:r>
              <a:rPr b="1" lang="pt-BR" sz="2800" spc="-1" strike="noStrike">
                <a:solidFill>
                  <a:srgbClr val="704404"/>
                </a:solidFill>
                <a:latin typeface="Tw Cen MT"/>
              </a:rPr>
              <a:t>2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para planejamento junto à coordenação e professores regentes e </a:t>
            </a:r>
            <a:r>
              <a:rPr b="1" lang="pt-BR" sz="2800" spc="-1" strike="noStrike">
                <a:solidFill>
                  <a:srgbClr val="704404"/>
                </a:solidFill>
                <a:latin typeface="Tw Cen MT"/>
              </a:rPr>
              <a:t>1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para pesquisa externa;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O quadro de planejamento mensal do professor da STE deverá se adequar ao horário de atividades do professor regente, acompanhado pelos coordenadores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O plano de aula do professore regente deve prever no máximo </a:t>
            </a:r>
            <a:r>
              <a:rPr b="1" lang="pt-BR" sz="2900" spc="-1" strike="noStrike">
                <a:solidFill>
                  <a:srgbClr val="704404"/>
                </a:solidFill>
                <a:latin typeface="Tw Cen MT"/>
              </a:rPr>
              <a:t>2</a:t>
            </a: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 aulas, mais que isso é necessário projeto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68360" y="642600"/>
            <a:ext cx="822960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O uso das mídias externas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A função do coordenador pedagógico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A função do diretor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Espaço Reservado para Rodapé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"/>
          <p:cNvSpPr/>
          <p:nvPr/>
        </p:nvSpPr>
        <p:spPr>
          <a:xfrm>
            <a:off x="720720" y="2492280"/>
            <a:ext cx="7770960" cy="2288520"/>
          </a:xfrm>
          <a:prstGeom prst="rect">
            <a:avLst/>
          </a:prstGeom>
          <a:solidFill>
            <a:srgbClr val="05b9dd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equipe técnica e a pedagógica das unidades escolares, em especial 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ordenação pedagógic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são as principais parceiras na garantia da efetiva utilização das STE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2320920" y="706320"/>
            <a:ext cx="5340240" cy="746280"/>
          </a:xfrm>
          <a:prstGeom prst="rect">
            <a:avLst/>
          </a:prstGeom>
          <a:solidFill>
            <a:srgbClr val="33cc33"/>
          </a:solidFill>
          <a:ln w="38160">
            <a:solidFill>
              <a:srgbClr val="339933"/>
            </a:solidFill>
            <a:miter/>
          </a:ln>
          <a:effectLst>
            <a:outerShdw dist="17819" dir="2700000" blurRad="0" rotWithShape="0">
              <a:srgbClr val="1f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TE – Sala de Tecnolog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4" descr="professor2"/>
          <p:cNvPicPr/>
          <p:nvPr/>
        </p:nvPicPr>
        <p:blipFill>
          <a:blip r:embed="rId1"/>
          <a:stretch/>
        </p:blipFill>
        <p:spPr>
          <a:xfrm>
            <a:off x="247680" y="347760"/>
            <a:ext cx="2023920" cy="1517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Espaço Reservado para Rodapé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2"/>
          <p:cNvSpPr/>
          <p:nvPr/>
        </p:nvSpPr>
        <p:spPr>
          <a:xfrm>
            <a:off x="1200240" y="1108080"/>
            <a:ext cx="3625920" cy="792000"/>
          </a:xfrm>
          <a:prstGeom prst="rect">
            <a:avLst/>
          </a:prstGeom>
          <a:solidFill>
            <a:srgbClr val="33cc33"/>
          </a:solidFill>
          <a:ln w="38160">
            <a:solidFill>
              <a:srgbClr val="339933"/>
            </a:solidFill>
            <a:miter/>
          </a:ln>
          <a:effectLst>
            <a:outerShdw dist="17819" dir="2700000" blurRad="0" rotWithShape="0">
              <a:srgbClr val="1f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Planejamen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3"/>
          <p:cNvSpPr/>
          <p:nvPr/>
        </p:nvSpPr>
        <p:spPr>
          <a:xfrm>
            <a:off x="584280" y="2752560"/>
            <a:ext cx="7889760" cy="3020040"/>
          </a:xfrm>
          <a:prstGeom prst="rect">
            <a:avLst/>
          </a:prstGeom>
          <a:solidFill>
            <a:srgbClr val="05b9dd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professor de tecnologias deverá ficar atento quanto ao planejamento do professor regente que deverá ser entregue com 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antecedência e com a ciência da coordenação pedagógic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ara que sejam disponibilizados os recursos necessários na STE e para que possam verificar as atividades a serem executadas pelos alunos e disponibilizá-las de acordo com o horário de aulas planejada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4" descr="planejamento_"/>
          <p:cNvPicPr/>
          <p:nvPr/>
        </p:nvPicPr>
        <p:blipFill>
          <a:blip r:embed="rId1"/>
          <a:stretch/>
        </p:blipFill>
        <p:spPr>
          <a:xfrm>
            <a:off x="4892760" y="841320"/>
            <a:ext cx="2254320" cy="1501920"/>
          </a:xfrm>
          <a:prstGeom prst="rect">
            <a:avLst/>
          </a:prstGeom>
          <a:ln w="38160">
            <a:solidFill>
              <a:srgbClr val="0066ff"/>
            </a:solidFill>
            <a:miter/>
          </a:ln>
        </p:spPr>
      </p:pic>
    </p:spTree>
  </p:cSld>
  <p:transition spd="slow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Espaço Reservado para Rodapé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"/>
          <p:cNvSpPr/>
          <p:nvPr/>
        </p:nvSpPr>
        <p:spPr>
          <a:xfrm>
            <a:off x="387360" y="2084400"/>
            <a:ext cx="8327880" cy="3420360"/>
          </a:xfrm>
          <a:prstGeom prst="rect">
            <a:avLst/>
          </a:prstGeom>
          <a:solidFill>
            <a:srgbClr val="05b9dd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diretores e coordenadores pedagógic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vem acompanhar as aulas desenvolvidas nas STEs, observando o cumprimento das regras de utilização das mesmas para garantir o seu uso pedagógico e consciente, com vistas ao desenvolvimento do processo de ensino e aprendizagem de seus alunos, e assegurar a sua utilização, para que a mesma não 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fique ocios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590400" y="369720"/>
            <a:ext cx="8128080" cy="1473480"/>
          </a:xfrm>
          <a:prstGeom prst="rect">
            <a:avLst/>
          </a:prstGeom>
          <a:solidFill>
            <a:srgbClr val="33cc33"/>
          </a:solidFill>
          <a:ln w="38160">
            <a:solidFill>
              <a:srgbClr val="339933"/>
            </a:solidFill>
            <a:miter/>
          </a:ln>
          <a:effectLst>
            <a:outerShdw dist="17819" dir="2700000" blurRad="0" rotWithShape="0">
              <a:srgbClr val="1f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ndução pedagógica para a intensificaçã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o uso dos  recursos tecnológicos existent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nas unidades escolar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Espaço Reservado para Rodapé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2"/>
          <p:cNvSpPr/>
          <p:nvPr/>
        </p:nvSpPr>
        <p:spPr>
          <a:xfrm>
            <a:off x="506520" y="214200"/>
            <a:ext cx="7408800" cy="792360"/>
          </a:xfrm>
          <a:prstGeom prst="rect">
            <a:avLst/>
          </a:prstGeom>
          <a:solidFill>
            <a:srgbClr val="33cc33"/>
          </a:solidFill>
          <a:ln w="38160">
            <a:solidFill>
              <a:srgbClr val="339933"/>
            </a:solidFill>
            <a:miter/>
          </a:ln>
          <a:effectLst>
            <a:outerShdw dist="17819" dir="2700000" blurRad="0" rotWithShape="0">
              <a:srgbClr val="1f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tribuições da Direção e equip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técnica pedagógica -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Resolução 2.127/200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3"/>
          <p:cNvSpPr/>
          <p:nvPr/>
        </p:nvSpPr>
        <p:spPr>
          <a:xfrm>
            <a:off x="395280" y="1197000"/>
            <a:ext cx="8377200" cy="4664520"/>
          </a:xfrm>
          <a:prstGeom prst="rect">
            <a:avLst/>
          </a:prstGeom>
          <a:solidFill>
            <a:srgbClr val="00c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ferecer, à Sala de Tecnologias Educacionais, condições de funcionamento, disponibilizando o material de consumo necessário ao desenvolvimento das atividade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companhar e avaliar as atividades desenvolvidas na Sala de Tecnologias Educacionai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segurar que os professores regentes cumpram, semanalmente, o planejamento das atividades na Sala de Tecnologias Educacionai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zelar pelo cumprimento da carga horária do professor de tecnologia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centivar o uso da Sala de Tecnologias Educacionais pelos professores regente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Espaço Reservado para Rodapé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"/>
          <p:cNvSpPr/>
          <p:nvPr/>
        </p:nvSpPr>
        <p:spPr>
          <a:xfrm>
            <a:off x="826920" y="476280"/>
            <a:ext cx="6989760" cy="792000"/>
          </a:xfrm>
          <a:prstGeom prst="rect">
            <a:avLst/>
          </a:prstGeom>
          <a:solidFill>
            <a:srgbClr val="33cc33"/>
          </a:solidFill>
          <a:ln w="38160">
            <a:solidFill>
              <a:srgbClr val="339933"/>
            </a:solidFill>
            <a:miter/>
          </a:ln>
          <a:effectLst>
            <a:outerShdw dist="17819" dir="2700000" blurRad="0" rotWithShape="0">
              <a:srgbClr val="1f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tribuições da  direção equipe técnic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edagógica -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Resolução 2.127/200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3"/>
          <p:cNvSpPr/>
          <p:nvPr/>
        </p:nvSpPr>
        <p:spPr>
          <a:xfrm>
            <a:off x="1042920" y="1413000"/>
            <a:ext cx="6624720" cy="4420800"/>
          </a:xfrm>
          <a:prstGeom prst="rect">
            <a:avLst/>
          </a:prstGeom>
          <a:solidFill>
            <a:srgbClr val="05b9dd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companhar o processo de seleção do professor de tecnologias, no âmbito da unidade escolar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zelar pela conservação e manutenção dos equipamentos, mobiliário e materiais da Sala de Tecnologias Educacionai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formar à Secretaria de Estado de Educação quaisquer irregularidades da Sala de Tecnologia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valiar o desempenho do professor de tecnologi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775f55"/>
                </a:solidFill>
                <a:latin typeface="Tw Cen MT"/>
              </a:rPr>
              <a:t>OBJETIVO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1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Group 15"/>
          <p:cNvGrpSpPr/>
          <p:nvPr/>
        </p:nvGrpSpPr>
        <p:grpSpPr>
          <a:xfrm>
            <a:off x="1258920" y="1413000"/>
            <a:ext cx="6626160" cy="4464000"/>
            <a:chOff x="1258920" y="1413000"/>
            <a:chExt cx="6626160" cy="4464000"/>
          </a:xfrm>
        </p:grpSpPr>
        <p:pic>
          <p:nvPicPr>
            <p:cNvPr id="503" name="Picture 7" descr="share"/>
            <p:cNvPicPr/>
            <p:nvPr/>
          </p:nvPicPr>
          <p:blipFill>
            <a:blip r:embed="rId1"/>
            <a:stretch/>
          </p:blipFill>
          <p:spPr>
            <a:xfrm>
              <a:off x="1258920" y="1413000"/>
              <a:ext cx="6626160" cy="44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Text Box 8"/>
            <p:cNvSpPr/>
            <p:nvPr/>
          </p:nvSpPr>
          <p:spPr>
            <a:xfrm>
              <a:off x="2571480" y="3769920"/>
              <a:ext cx="91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NT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9"/>
            <p:cNvSpPr/>
            <p:nvPr/>
          </p:nvSpPr>
          <p:spPr>
            <a:xfrm>
              <a:off x="4342320" y="4634280"/>
              <a:ext cx="91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ST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11"/>
            <p:cNvSpPr/>
            <p:nvPr/>
          </p:nvSpPr>
          <p:spPr>
            <a:xfrm>
              <a:off x="6297480" y="3312000"/>
              <a:ext cx="91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COTEC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12"/>
            <p:cNvSpPr/>
            <p:nvPr/>
          </p:nvSpPr>
          <p:spPr>
            <a:xfrm>
              <a:off x="3426840" y="1989720"/>
              <a:ext cx="182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PROFESSORE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13"/>
            <p:cNvSpPr/>
            <p:nvPr/>
          </p:nvSpPr>
          <p:spPr>
            <a:xfrm>
              <a:off x="3304080" y="3138480"/>
              <a:ext cx="3053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ffff"/>
                  </a:solidFill>
                  <a:latin typeface="Arial"/>
                </a:rPr>
                <a:t>ALUNOS</a:t>
              </a: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14"/>
            <p:cNvSpPr/>
            <p:nvPr/>
          </p:nvSpPr>
          <p:spPr>
            <a:xfrm>
              <a:off x="5808600" y="4460760"/>
              <a:ext cx="73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UEM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99"/>
                </a:solidFill>
                <a:latin typeface="Tw Cen MT"/>
              </a:rPr>
              <a:t>ESTRUTURA</a:t>
            </a:r>
            <a:endParaRPr b="0" lang="en-US" sz="4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68360" y="157176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1. Apresentar as ações previstas, executadas e a executar pelos professores do NTE e STE no 1º semestre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2. Apresentar a realidade de uso da STE nos meses de março – abril – maio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3. Identificar os professores que usaram as tecnologias efetivamente no 1º semestre e os que não utilizaram e qual turno apresentou menos uso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4. Apresentar e discutir cronograma de ações NTE/STE para o 2º semestre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24000" y="14256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99"/>
                </a:solidFill>
                <a:latin typeface="Tw Cen MT"/>
              </a:rPr>
              <a:t>AÇÕES PREVISTAS: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99"/>
                </a:solidFill>
                <a:latin typeface="Tw Cen MT"/>
              </a:rPr>
              <a:t>EXECUTADAS E A EXECUTAR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8" name="Picture 5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337080" cy="44816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0" y="112500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99"/>
                </a:solidFill>
                <a:latin typeface="Tw Cen MT"/>
              </a:rPr>
              <a:t>PELO NTE - STE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99"/>
                </a:solidFill>
                <a:latin typeface="Tw Cen MT"/>
              </a:rPr>
              <a:t>1º SEMESTRE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39640" y="1642680"/>
            <a:ext cx="361656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Reunião com os professores das STE e professores multiplicadores do NTE (NTE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Visita às escolas (NTE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Orientação aos PSTE (NTE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4859280" y="1643040"/>
            <a:ext cx="3618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evereiro – març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(executad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evereiro – març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(executad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evereiro – dezembr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(em andament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39640" y="1571400"/>
            <a:ext cx="388008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Acompanhamento das atividades desenvolvidas pelos PSTE (NTE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Curso informática básica (STE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Projeto Brasil Ponto a Ponto (STE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4788000" y="1571760"/>
            <a:ext cx="361764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arço a dezembr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em andament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arço – abril – mai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 executad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arço – abr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 executado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84000" y="1571760"/>
            <a:ext cx="361620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Curso Tecnologias na Educação: ensinando e aprendendo com as TIC (NTE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Projetos para I Encontro PSTE (STE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4788000" y="1571760"/>
            <a:ext cx="435600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bril – Outubr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( em andamento em Nova Andradin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Maio - Julh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(em andamento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7:12:47Z</dcterms:created>
  <dc:creator>Windows</dc:creator>
  <dc:description/>
  <dc:language>en-US</dc:language>
  <cp:lastModifiedBy>MicroCarla</cp:lastModifiedBy>
  <dcterms:modified xsi:type="dcterms:W3CDTF">2009-07-30T13:03:22Z</dcterms:modified>
  <cp:revision>317</cp:revision>
  <dc:subject/>
  <dc:title>TECNOLOGIAS NA ESCOLA</dc:title>
</cp:coreProperties>
</file>